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CDF-DD49-40CE-84D1-0DDCFD72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35C-DA78-47A4-BFBD-8D74BA76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1AC-B9F5-4858-9B3D-6A9F7B43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5FB-D780-4E48-B660-D9AF3A90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B4C-DA13-41F4-8191-84DEDCC3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744-FEB9-4110-9DB0-9CEC8226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CA3-B563-42B4-A6F4-D6FD9C38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937-6EB6-46B0-809D-296207FA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4EF-8329-42F3-895E-BD456198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3C6-263A-4ECD-BF3D-C163A476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0D8-B26E-4837-944E-9CC390DC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172-2566-492F-BE22-3169A084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C624-60AE-4627-A65C-AF028147C0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62B3-F4A6-4313-ABAC-0F93E4330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4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2.xm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9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0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1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9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0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3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gebr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840" y="1981080"/>
            <a:ext cx="8087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der the following numb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greatest to lea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/5,  0.5,  1.03,  8/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69280" y="2071800"/>
            <a:ext cx="52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03,  8/10,  3/5,  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6760" y="1932120"/>
            <a:ext cx="8221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best metric unit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se to weigh a smal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ece of cand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85680" y="2438280"/>
            <a:ext cx="172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828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362320"/>
            <a:ext cx="8153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Jake planted a tree 1.5 meters tall. How many centimeters tall is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3400" y="190512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236232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150 c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686160" y="1447560"/>
            <a:ext cx="1066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Mr. Dillon bought a bag of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ranges that weigh 96 ounces.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ow many pounds is this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br>
              <a:rPr sz="40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 poun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6160" y="2666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889280"/>
            <a:ext cx="9067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ook the Parson Famil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hour 50 minutes to drive to the shore. They stayed for 5 hours 20 minutes. It took them 2 hours 5 minutes to drive hom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long were they gone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360" y="2365200"/>
            <a:ext cx="5319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9 hours 15 minut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1337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he numeral eight million, forty seven thousand, five hundred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92600" y="25416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90332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rea of a square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4 sq ft. What is its perimeter in yard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286000"/>
            <a:ext cx="751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43828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6 ya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37339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24382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1905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495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143000"/>
            <a:ext cx="87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line is perpendicular to line 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245124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ne 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0574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name of a three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mensional figure with six square fa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25146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28600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many more lines of symmetry does a square have than a rectang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146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81080" y="47242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752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was done to the rhomb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572000"/>
            <a:ext cx="75960" cy="76320"/>
          </a:xfrm>
          <a:custGeom>
            <a:avLst/>
            <a:gdLst>
              <a:gd name="textAreaLeft" fmla="*/ 27360 w 75960"/>
              <a:gd name="textAreaRight" fmla="*/ 48600 w 75960"/>
              <a:gd name="textAreaTop" fmla="*/ 27360 h 76320"/>
              <a:gd name="textAreaBottom" fmla="*/ 489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191120"/>
            <a:ext cx="1904760" cy="761760"/>
          </a:xfrm>
          <a:custGeom>
            <a:avLst/>
            <a:gdLst>
              <a:gd name="textAreaLeft" fmla="*/ 418680 w 1904760"/>
              <a:gd name="textAreaRight" fmla="*/ 1486080 w 1904760"/>
              <a:gd name="textAreaTop" fmla="*/ 167400 h 761760"/>
              <a:gd name="textAreaBottom" fmla="*/ 5943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3352680"/>
            <a:ext cx="2895480" cy="1524240"/>
          </a:xfrm>
          <a:custGeom>
            <a:avLst/>
            <a:gdLst>
              <a:gd name="textAreaLeft" fmla="*/ 636480 w 2895480"/>
              <a:gd name="textAreaRight" fmla="*/ 2259000 w 289548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2800" y="358128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3809880"/>
            <a:ext cx="2590920" cy="914400"/>
          </a:xfrm>
          <a:prstGeom prst="parallelogram">
            <a:avLst>
              <a:gd name="adj" fmla="val 708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51460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657600"/>
            <a:ext cx="1447920" cy="685800"/>
          </a:xfrm>
          <a:custGeom>
            <a:avLst/>
            <a:gdLst>
              <a:gd name="textAreaLeft" fmla="*/ 318240 w 1447920"/>
              <a:gd name="textAreaRight" fmla="*/ 1129680 w 144792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076640" y="2628360"/>
            <a:ext cx="3276720" cy="4267440"/>
          </a:xfrm>
          <a:custGeom>
            <a:avLst/>
            <a:gdLst>
              <a:gd name="textAreaLeft" fmla="*/ 720360 w 3276720"/>
              <a:gd name="textAreaRight" fmla="*/ 2556360 w 3276720"/>
              <a:gd name="textAreaTop" fmla="*/ 938520 h 4267440"/>
              <a:gd name="textAreaBottom" fmla="*/ 3328920 h 426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267080"/>
            <a:ext cx="236196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267080"/>
            <a:ext cx="914400" cy="609840"/>
          </a:xfrm>
          <a:prstGeom prst="flowChartManualOpera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2514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181480"/>
            <a:ext cx="914400" cy="609840"/>
          </a:xfrm>
          <a:prstGeom prst="flowChartManualOpera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2895480"/>
            <a:ext cx="1523880" cy="83844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184320 h 838440"/>
              <a:gd name="textAreaBottom" fmla="*/ 654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4876920"/>
            <a:ext cx="914400" cy="609480"/>
          </a:xfrm>
          <a:prstGeom prst="flowChartManualOpera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6553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5257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2666880"/>
            <a:ext cx="2971800" cy="1524240"/>
          </a:xfrm>
          <a:custGeom>
            <a:avLst/>
            <a:gdLst>
              <a:gd name="textAreaLeft" fmla="*/ 653400 w 2971800"/>
              <a:gd name="textAreaRight" fmla="*/ 2318400 w 297180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3505320"/>
            <a:ext cx="1214640" cy="9144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274320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2895480"/>
            <a:ext cx="3200400" cy="2210040"/>
          </a:xfrm>
          <a:custGeom>
            <a:avLst/>
            <a:gdLst>
              <a:gd name="textAreaLeft" fmla="*/ 703800 w 3200400"/>
              <a:gd name="textAreaRight" fmla="*/ 2496600 w 3200400"/>
              <a:gd name="textAreaTop" fmla="*/ 486000 h 2210040"/>
              <a:gd name="textAreaBottom" fmla="*/ 17240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114800"/>
            <a:ext cx="2666880" cy="2286000"/>
          </a:xfrm>
          <a:custGeom>
            <a:avLst/>
            <a:gdLst>
              <a:gd name="textAreaLeft" fmla="*/ 586440 w 2666880"/>
              <a:gd name="textAreaRight" fmla="*/ 2080440 w 2666880"/>
              <a:gd name="textAreaTop" fmla="*/ 502560 h 2286000"/>
              <a:gd name="textAreaBottom" fmla="*/ 17834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1295280" y="1219320"/>
            <a:ext cx="5638680" cy="2286000"/>
          </a:xfrm>
          <a:prstGeom prst="leftArrow">
            <a:avLst>
              <a:gd name="adj1" fmla="val 50000"/>
              <a:gd name="adj2" fmla="val 616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1828800" y="114300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4419720"/>
            <a:ext cx="1676520" cy="1295280"/>
          </a:xfrm>
          <a:prstGeom prst="parallelogram">
            <a:avLst>
              <a:gd name="adj" fmla="val 3235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5715000"/>
            <a:ext cx="1214640" cy="914400"/>
          </a:xfrm>
          <a:prstGeom prst="parallelogram">
            <a:avLst>
              <a:gd name="adj" fmla="val 332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4495680"/>
            <a:ext cx="2210040" cy="838440"/>
          </a:xfrm>
          <a:prstGeom prst="parallelogram">
            <a:avLst>
              <a:gd name="adj" fmla="val 658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429000" y="4876920"/>
            <a:ext cx="2286000" cy="1295280"/>
          </a:xfrm>
          <a:prstGeom prst="parallelogram">
            <a:avLst>
              <a:gd name="adj" fmla="val 44122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3429000" y="3123720"/>
            <a:ext cx="2362320" cy="1219320"/>
          </a:xfrm>
          <a:prstGeom prst="parallelogram">
            <a:avLst>
              <a:gd name="adj" fmla="val 48435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84520" y="2357280"/>
            <a:ext cx="38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a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1981080"/>
            <a:ext cx="56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 047,5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608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73664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solid. How many faces,  vertices, and edges are there on this three dimensional fig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981160" y="4195800"/>
            <a:ext cx="2885760" cy="1290600"/>
            <a:chOff x="2981160" y="4195800"/>
            <a:chExt cx="2885760" cy="1290600"/>
          </a:xfrm>
        </p:grpSpPr>
        <p:sp>
          <p:nvSpPr>
            <p:cNvPr id="234" name=""/>
            <p:cNvSpPr/>
            <p:nvPr/>
          </p:nvSpPr>
          <p:spPr>
            <a:xfrm flipH="1">
              <a:off x="3565080" y="4209840"/>
              <a:ext cx="2301840" cy="93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565080" y="4209840"/>
              <a:ext cx="23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981160" y="4534560"/>
              <a:ext cx="2301840" cy="93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66920" y="4218480"/>
              <a:ext cx="0" cy="93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537880" y="5153760"/>
              <a:ext cx="329040" cy="18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311440" y="5282280"/>
              <a:ext cx="328680" cy="18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283360" y="4218480"/>
              <a:ext cx="583560" cy="331920"/>
              <a:chOff x="5283360" y="4218480"/>
              <a:chExt cx="583560" cy="33192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5537880" y="4218480"/>
                <a:ext cx="32904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283360" y="4363920"/>
                <a:ext cx="32760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H="1">
              <a:off x="3237120" y="5153760"/>
              <a:ext cx="327960" cy="186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003120" y="5299560"/>
              <a:ext cx="327960" cy="186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3006000" y="4195800"/>
              <a:ext cx="583560" cy="331920"/>
              <a:chOff x="3006000" y="4195800"/>
              <a:chExt cx="583560" cy="331920"/>
            </a:xfrm>
          </p:grpSpPr>
          <p:sp>
            <p:nvSpPr>
              <p:cNvPr id="246" name=""/>
              <p:cNvSpPr/>
              <p:nvPr/>
            </p:nvSpPr>
            <p:spPr>
              <a:xfrm flipH="1">
                <a:off x="3260520" y="4195800"/>
                <a:ext cx="32904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006000" y="4341240"/>
                <a:ext cx="32760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096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 faces, 8 vertices, 12 ed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2219400"/>
            <a:ext cx="732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is pattern continue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next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, 6, 12, 24…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200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18288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167652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missing number in this patter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7, 52, 50, ___, 43, 38, 36, 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97440" y="3497400"/>
            <a:ext cx="15796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280" y="18576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was the rule us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reate this patter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2, 22, 17, 27, 22, 32, 27, …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DAILY DOU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2080" y="4781520"/>
            <a:ext cx="10922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57640" y="4621320"/>
            <a:ext cx="1094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84880" y="3854520"/>
            <a:ext cx="1092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31240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DOUBL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54080" y="2286000"/>
            <a:ext cx="73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ubtract 10 and add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200" y="1901880"/>
            <a:ext cx="88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this pattern continues, how 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ocks are needed to build the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fig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3962520"/>
            <a:ext cx="8076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123CountingTiles2"/>
                <a:ea typeface="123CountingTiles2"/>
              </a:rPr>
              <a:t>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0520" y="1852560"/>
            <a:ext cx="7902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680" y="1936800"/>
            <a:ext cx="93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all the factors of 24?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320" y="2055960"/>
            <a:ext cx="8991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value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is equ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12 = 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41880" y="3568680"/>
            <a:ext cx="1258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33840" y="4572000"/>
            <a:ext cx="1217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4800600"/>
            <a:ext cx="7952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19051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1080" y="1523880"/>
            <a:ext cx="740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degrees warmer was it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dnesday than on Thurs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83400" y="198108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0 degre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843200" y="367200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738680" y="367200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33520" y="1474920"/>
            <a:ext cx="8534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tie will spin each spinner once. What is the total number of different outcomes of a color and a number that can occu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52880" y="236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8493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lf of Jason’s class received 80 on a math quiz, one quarter of the class received 75, and one-quarter received 90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mode of the class sco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46680" y="24382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ily Dou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46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-304920" y="1600200"/>
            <a:ext cx="9906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range, mean and medi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the following test sco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5, 100, 75, 100, 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4419720" y="4572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7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Doubl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25040" y="1882800"/>
            <a:ext cx="364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ange – 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an – 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dian – 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4160" y="1981080"/>
            <a:ext cx="602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, 4, 6, 8, 12, 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2057400"/>
            <a:ext cx="9068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roll 2 dice and then add them, what sum has the be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ce of occurr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-380880" y="1981080"/>
            <a:ext cx="9982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out of 36 possibilities render the sum of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Math Jeopardy</a:t>
            </a:r>
            <a:br>
              <a:rPr sz="8000"/>
            </a:br>
            <a:br>
              <a:rPr sz="8000"/>
            </a:b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2007 PSSA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Grade 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am Ro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ptain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sures each member has a turn and decides when team mates take their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r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eam member watches the clock to make sure the other teams do not exceed the 30 second li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ore Keeper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team member keeps track of the points earn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ecial R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contestant answers incorrectly, no points are sco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contestant does not answer in 30 seconds, he/she may choose to ask a team mate for help, if this option is chosen then only half of the points are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609480" y="2241720"/>
            <a:ext cx="10362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prime numbers are there greater than 60 and less than 70?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61240" y="2209680"/>
            <a:ext cx="24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1 and 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67652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und the quotient to the nearest tenth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53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228600" y="1828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3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udsd</cp:lastModifiedBy>
  <dcterms:modified xsi:type="dcterms:W3CDTF">2012-03-19T12:35:09Z</dcterms:modified>
  <cp:revision>73</cp:revision>
  <dc:subject/>
  <dc:title>Blank Jeopardy</dc:title>
</cp:coreProperties>
</file>